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5A1-90A7-4C45-8CA3-A18AF0A1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772-4478-4C81-8565-636D4BD6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F97AA-9ED6-4589-8418-0A9C9771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CFB89-E423-4C04-8D31-F11CCA0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7B2DD-FABA-42BF-9651-FF155578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48244-75A1-490D-AC40-E5B6D91C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9B00F-1764-4447-9394-5D69C331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A5B3C-BACB-4CFF-ABAD-4444AAC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C3A18-B5D0-436F-A94F-C202464E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631F8-3FCF-4FBA-BED4-61DFF821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1F7F4-F3D1-425E-A98B-2575E8ED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D9DCD-4C3D-4E34-BF00-9A31771C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FCB-A42F-49F7-8FD7-E3ACBBCC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30C73-2AAB-4896-A21A-63B56647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43FFE-AD9D-4B3B-AD42-46B7E394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1AE33-F6C7-4C51-8CCE-DE851F5D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068FA-D554-47B8-82C6-C5C6B2E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1FA06-047F-48F8-BF1B-AD8F787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16C26-F7F4-4067-818A-AFE3E77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764C1-7BB4-4711-9190-F3B27237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DC87C-D5E6-4C8F-A92E-4BECA651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53836-E23D-4AF3-974E-7F670DDE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5A18C-4726-4BE5-B400-04CB53A6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C0A-8F4B-487F-8951-B1AF0108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FB83D-BC83-4F02-BEF8-0370D426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C1200-39C5-46D3-BD5A-2645F1E6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CCEFC-F807-4D82-9E09-2E953A83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715BA-2E18-4A6A-8E88-FCC67589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67254-1F85-45E0-8756-2EC98059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CEE96-5B16-4B13-8D73-69318E1D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14C54-16F4-4C3C-AB0C-66051727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E282A-7476-4400-B12A-A9B5802E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3991E-2FFF-4E1E-AD5B-F553A898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C5DA7-B593-4FD4-850E-D8731C76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51AE-5DAE-4AEA-BA57-508A4C53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31857-5C32-432D-AB4C-2857DE8A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FF334-56DA-430E-B396-8C88CF45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2313E-AF89-4168-A54F-8BA7542A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75718-78D5-4B0A-B868-A3765D55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7197F-C5E7-4A5D-9867-A8A14445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2684C-9698-4F39-953E-6C638D2D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7A632-91BB-4C9C-8458-6B720A9E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77E65-8436-4935-8881-F7D14BE9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1846C-0948-4436-AE4A-F92F498E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99780-53E0-45C0-95AC-1BAEDA50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0799-D9E7-42EC-B701-44908031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C7B37-4229-4991-8E71-4B0B4243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36495-C5D2-4044-8AC3-1A7EFF0B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83003-35B9-4D05-B553-934D9C6F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42A88-74AF-4FCD-A6A1-0F928C67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EEE58-11A9-49CF-9F1D-D727AF49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7CAB4-62DF-4DCA-9226-019F121B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7C2D1-6410-4347-B279-7235E0D5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303D9-EBD9-4D3D-B8AA-6D4BA531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B9B8B-E313-4B8B-BA2A-FFF6C65C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244E9-2AB5-47B6-B07E-5D11B504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F7BE-37D3-47B1-9328-12CA8496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565AC-C0F2-4B61-A222-F342B1F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68908-4631-4953-8201-A3CE79B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AE4F2-2EAA-4405-8A7B-B4DF32F4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6BD3D-14A6-447F-B882-D36BFA13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B9835-2821-415C-AEBC-1308D172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9EC28-1DF0-4322-B8F6-FE69BD28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608DB-7C0C-4A23-9496-AEC4ED01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0C24C-E960-4D5F-B481-0462772C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A41B0-EFC4-40F4-AB27-7AD7FB78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902B6-7A4F-45C5-BA63-799D4F87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71D3-0DCE-486E-8653-B7FFA69B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A2C9C-BCFE-4CB5-9116-10761EB2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28145-81F3-4C4A-9C7E-433C8254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58A29-E035-4F7D-8D09-E6A4D434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A2046-B7C6-40D3-90A0-5685009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D9F5A-5AC9-4556-A17B-A575E4F2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39DDE-9103-46A3-A579-58F16677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1983D-7650-4F48-94AA-850B26EB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728A5E-3CEF-4572-BA0D-8A436F14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05228-A7B2-4293-B9C8-D3FF61F3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4BA18-7D7B-4132-8631-37CB2645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30A5-89FA-4EDA-B1FA-06EF0727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DE2D9-A8D1-40A7-8208-622C56EA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A647B-EA25-492C-A749-4FA92A0C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03746-AA2D-4899-A8FE-D474CF0E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F2BDD-B06A-44F4-9F37-41BE99E6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E311A-88DE-4F5D-AEC4-35BA131A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82BC4B-E5CF-42FB-BE3A-D5E2521A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EC553-8742-4EB9-91FF-88417751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7F14C-5EB7-45B1-821B-D39582B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DBCB5-50E3-4181-9F2D-81479C35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C51D0-0719-468A-BB30-451737F4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209E-996F-4660-8329-C71D855E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DF62E-470B-4F5E-8D81-1DA116CF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CC330-041A-4DC3-B845-34900E17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248AA-C2A5-402A-9D55-B3282DC5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E3A71-B834-401E-BEA0-3AADC11E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CC99F-0124-4CA6-A413-58BAF0E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82693-1B6C-448B-8AFD-A7C6A8D7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607B1-0FF8-493F-9C56-DC838108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B72B8E-7170-46B0-8A1C-92E3296E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B2E3E-EF96-49C7-9F0E-19DCF11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CE7C0-6E3F-42BF-A46C-4E6B164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45D3-C019-430A-938E-0136AAD4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BDD0F-ADD6-4078-A7E4-20E6728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F6F60-EC61-462D-BE7C-16F71524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33B56-9C9C-458D-A56B-65832E27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1B83E-7A34-4247-9B38-20B4391A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6443E-A1D5-42F9-A020-81E2579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F1AB4-3037-4A59-8FA0-7826011D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2D023-1120-4D05-B902-E0199EB7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B1939-55D2-413B-BAD1-65A74FB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71FBC-67C5-46FC-B230-FDBA5673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27162-9CC8-49CB-91CC-B4D4A837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122-7966-41A5-AC5F-4D8DC0C2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6228-87DC-4C7E-A434-F235D060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54D84-8058-4C7A-8F06-C6F1FF1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15F66-D593-414E-8296-9013DAB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497E2-0171-45F5-811B-138676C4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D6E76-C4B3-40F9-8E5C-72D81E57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F5B51C-B54B-4D62-BAA8-F0EA5B53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12A5C-24DB-468F-A701-B3D8F890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04498F-DA46-43F9-860A-1A5386C3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BFECBF-9346-4489-87BD-34FD704E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E10D9-E06F-490F-9037-2B69D18E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9244E-A2A9-4B39-BB2E-80B5496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F218-EAA6-4388-93B5-4EFB8AE7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E3043-B388-48C5-8612-272EFEFF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6D31A-68B4-4581-BBB6-B9CD0530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B333B-77AF-41B1-8C4C-1FBA539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9D067B-25EF-4BAE-95BA-612C17BC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6E767-0B4E-4931-8018-5D51E877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8503B-DC43-4155-8718-05394A13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35C623-BDA2-4B2C-8E7C-F5AD01DA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79029-6A2F-4B26-96E6-9F6C00F4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8FEF7-2482-440D-BC3D-7D59C478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6B06D-3E57-4FE1-A4F7-2FC33185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5BFC-1434-4E73-B716-5FCA3746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4CF11-4AB7-4EC4-BD83-4E703750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68D3B9-B09D-4801-B054-36E0442F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3146A-A93F-4663-B31B-73D30E96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E0EB6-F3C8-4BBC-AF39-69A2DE6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8D6424-484D-4749-9C65-281D2100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ADD4B6-08D1-4D2C-9123-49D54514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C3037-E9A7-46B5-8729-6FA6DB0B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0FF02-ACD5-4CDF-9499-E3CE9801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FF3938-B482-4E76-9E20-E250C9FE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38FD7-D8DC-41B8-8637-488813DB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480E-B16D-4B65-8C65-F9FEF982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F4A9F4-116C-44E5-9967-8FEA21EC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8068B-74D7-4EB7-83A4-48B4C05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356CD-DAB6-4812-9BC7-21BA75A6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B863D-3C52-49D9-A630-4E9BE8A2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109EB9-2B8A-46AC-9519-B2AD2B50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20329-7CF3-41AD-BF76-94B36AF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29260F-73B9-4A02-8FC2-8A77B674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AE7E4-0889-4101-B337-1BB29010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E7067-2B32-483E-94B9-CF450BB1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44E41D-A06C-434F-B0ED-4CFEEE29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516A-0CBA-45F4-B488-4ECB50AF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9A8771-BE7D-43E1-B029-713CB3E2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E9663-662C-4523-BB09-23B65E6E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999D6-6426-4D1C-A61C-48CF27A7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197AF-CF29-40D4-AE09-739C8805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B0877B-E710-424F-8775-C299AF31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ACAF9-4D31-4B29-BB86-C79FB707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850BA7-6BCC-48EA-9F22-D80217F5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1A176A-EABC-4F11-979E-9E843A59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A3E36-3DDB-41E2-8DF2-FD6F68BA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D4E455-50FD-426A-BAA9-9A55F4F4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6BFE-585D-4B75-9308-A6C6E911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7DFB2-421F-4F03-BE12-64B78776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CD0C1-7BEB-4A8D-9E89-38DCDBB5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9180CC-8370-4255-B7ED-E6EE3EF7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24E895-2725-415F-857B-E760FCB0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07EBAD-C66A-4779-9E0E-6DECE389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8D9A1-00F1-4EFA-B4E2-3786D5CF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CD1662-C7AC-46FB-9D9D-A16F95F9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29399-1BA0-4416-B9DD-115343BF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8A1094-3572-40A3-A968-28E3E021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2A030A-9B52-4A50-A09E-AAF615E0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1ABE-D3A3-485A-9592-F866830E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4DC8F0-A3E3-40E3-98F0-34B05ABF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FAA2CE-BE87-4E90-A6DD-F847F85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8F36AC-BE25-48A8-941C-AF754AE9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F80515-1007-452F-BB71-9BF21DDF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2484CA-8FF9-49E8-8A27-BA8BCFDF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06B229-C629-49C6-B462-365F9A65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77CA71-88A2-4455-BDC2-3B6E5810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F5C8DE-BA6C-442D-BAD8-09AA9EF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D242EC-1090-44B0-9613-0DEA869F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FD0D49-2DF9-4567-9DF2-EB19D94A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4A7E-383C-4F7D-8E03-FCF4A450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7B37F8-E346-4EB9-A11E-4639EA8A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D1B6D-B9B7-40FD-9301-20CA0BBB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3F1FDF-A72A-4325-8D1D-375A739E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4BC80-6D48-4DFE-9E9A-9EFF5693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438B2C-4C0D-49C6-8895-F25321E9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01AEFF-4C8A-4B85-9568-12A9D7A3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19CD6-5493-494E-8EE4-0F6D666D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671CC5-A40B-418F-8C34-BF1B4DED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7B48C5-F2DF-4317-99CE-CFF2C12A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E96713-5EA8-4426-8251-E57E3624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6D8C-DCD4-47B0-8657-3FD9FDBB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3E8C95-10C9-449B-AB7B-555C1C6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4B47F-19ED-4F58-901E-293039E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B9BDC8-7696-44EC-A3CD-9912EDD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6A1F02-4C7C-4BD7-A92C-A9DAD0C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12DA41-26E8-42D2-8EC3-B590685D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303C7C-A2CD-44DE-84A7-53B08986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68D903-14E0-413F-8895-C539F1BD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FADA9F-1377-45F9-B09C-9994AD50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D19A6F-D74B-4C5A-8174-B887BF5A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70F6C1-69E4-40EE-BA75-6028B872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F60B6-B027-45C6-8DB1-73A46A5F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6E8E64-F654-4FD6-9405-D72BFEF5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897754-9427-4571-83F7-09DA79A2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893286-6535-4294-A897-D9C03D11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08BF72-AC17-4F08-8526-762F7AAB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D58CCC-D5AB-4DCC-9294-8F2209E4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C82FAB-C82D-4234-AEF9-FF48B7E6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EB68E7-7EEE-423D-A602-3F9421D5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BDA4B0-D534-47B9-9144-507DF2C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710EB5-CD08-4E6B-8BE6-6173D3A2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F9DDD6-5961-4DDF-8E66-B85B070F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C0F-FDEB-47A0-8489-A3B9F562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77BB-9580-4B95-A001-B67B138D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B89BD7-5345-4B0F-95B6-3AFF732E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37445B-75F1-4E18-83DC-E5E04EF6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30E243-C34B-4CE2-BC4D-3F6CD4D2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D0C175-68C2-4A74-A38E-A81258B5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D515EB-257E-41B5-82A6-F55B48B2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392A3E-AD03-481E-845D-2535CF82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30385A-2E5D-44E5-84E1-3C131FAF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49FD74-86E5-4AE4-B6AD-9C790567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766B59-793C-479B-B60B-3BDA1FA0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42717C-CEBC-4221-BBCF-8098072F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7173-6599-45F1-A44A-32A173D0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7C36EE-E13F-450C-8B1A-962C8449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98950C-ACDF-4ED7-999C-83A2848D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45C393-7FD0-48C4-A864-6BB8BB8B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E6216A-10E9-48EE-9ABC-FB75CC1E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7793EA-BDA8-422C-B986-AD77F1F5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3CF07A-9475-48B7-98B5-F23A8351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1D06A7-E7A8-4470-A540-C1DEEE36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B91C48-102A-48B2-AE0E-26B639C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2CEBA5-9A66-4BE0-AEB1-F99C6DE2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956969-EC2B-4047-8DEE-C2924924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6593-C882-459D-A815-EA314699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6D490D-3D78-4449-B9C6-FE7D12F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EFD655-381B-4A01-A658-C14FED7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6FD6D1-7C5D-45A9-9466-A6FAB8C6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3E251B-6ED1-4E4D-A2B0-34082BCA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687581-FE28-4012-9C4C-F133A67A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1FE196-58C1-4691-9ADE-74027812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762D96-819E-4030-B374-BAE9BEB0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7AA319-F265-4325-B2B5-D326C9EA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28C3EE-7079-4870-BF7C-8C653A58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96F87D-176E-4B7C-8090-36F8CBB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1E90-0600-4BBB-8A71-6680A0D2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6D1621-2184-4908-A2B0-1528E581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8E2265-86FD-4B12-A8E7-83BE95CD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50F907-FED7-444C-9DC3-C4AC7CAE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8E9CB0-0869-42DF-962D-47F5537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3C53C5-1C38-4442-9994-259D8DEE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E923B2-6D4A-4EBC-A90D-8D092DF0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68F138-BD48-4702-A1C7-1275778D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99FAF5-989B-4A43-A30E-688682AC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CF89A9-37F1-4E5D-A0A7-E4304BCF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4C0776-A48D-439E-8045-B4DF5951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3ADE-ADC0-4E26-BC2F-7392C321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8EE763-1C0B-4FCC-89C2-F135E2A1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47EA62-A4D7-4CF8-B3F9-9FC526E6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BC7398-0B83-49A3-BF7F-D4E6751D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CE4498-B6D1-4B2D-B75B-5CDE254A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865DCE-C012-47E8-AD94-271FE37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07BA5C-C755-4524-83A8-34C363F7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1C545D-ED48-438A-A86E-0CCBA5D5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9E53A3-8687-4196-B28C-68CC43B8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18B96F-77EA-45C1-AB24-05A46B10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4BC2F4-D4CC-4EE8-B5B1-96C3D043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0DE2F-C9D8-4FCA-A4F2-A9A5850F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849F8E-273A-4A16-8BD7-275B471F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382487-4A7C-4ADC-BA70-58BEE229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B43C4E-D9F6-44B6-BCB2-2CD566E4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13FE1F-B46A-4B4A-A64A-B2917768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DFAEF2-D178-43A5-9AA0-30EB72E5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86672E-1678-4308-9785-977AD9BC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F35DAA-7A5F-4A7E-89AC-B10C0F3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37C244-A6CA-4A32-8AE0-971AF5E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D46C74-32F4-4728-9A12-674E71C5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52E17B-CA0E-43E1-92F5-C5538DFF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A2D0E-D779-490D-BC02-FCBD212C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1FC00D-D7FC-4B35-BCB3-4C0DFA80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667200-3B4A-4417-921B-1D11B8D7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85EBCF-2440-4955-B067-9ABAD739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D06BD3-4D14-49AE-9801-925B5AC0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4C8074-3834-4101-A27F-A822DBA2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CDC6EA-2469-4C1A-9B24-835C689A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1F2B2F-67F9-47C1-BF37-0A725973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B0A290-B892-4816-9C0C-47A3E37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8C984E-1256-4AFC-BF12-655460A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4340D7-31C5-4637-A395-6EF5239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BC7A-B2A0-4CB9-9F05-02AAD33B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7C453B-70F7-408C-B3BC-42C2F8B0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B86D3B-BE42-4D31-81D5-F12111315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E7F387-679D-4358-9616-E04D095D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66143-85A6-4905-A86C-3AB06520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5EBD3-51FF-4269-AF06-0E0E20E7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CCD-43B7-45C0-838A-47C6E1B8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86A0-8DD5-4155-A6A0-812E79FE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300F-EB2C-4AEC-A804-FC2228FA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DDD4-1F39-470F-A005-5A774928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22781-28C8-467D-BF2E-61D07F3D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F6CB-D44B-47C0-A08A-1E6FD359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8C84-E7B6-4632-A428-96168744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F956-8A68-43E9-876F-E281685C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A64D3-CAB1-4709-98B5-9C1DA519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F513-44EE-443B-81E0-2C5E6ADE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2CDB4-12C1-4594-B42E-922ED65A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FEB-0BE3-4249-87F2-7EF7543F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39E2-333D-4A1A-B41D-7C8C20A5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731A5-6025-4C3C-BE72-094E9331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7FD30-5853-4DD8-82A2-A1D37A1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BA24-0CE2-4FC4-A4AA-163B7AFA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832A-6DB2-42B7-9B46-04BB7C77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857F6-5B78-4E40-B120-2C259143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C9C3D-D4FF-498D-A69E-46C0B356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19BE-2567-498A-8F04-394079B7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7B59C-C5A8-4B89-9220-DA82E188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60599-87A1-424C-9902-535AFAFA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02D-21F7-43D2-AE85-C58E26EA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A1AF-D188-44C8-9385-8F6F26E3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4E0BA-2DF3-4BE6-B10B-A71716F5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0630F-B4B4-466E-983C-D4329578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CD98-F042-4707-B961-10CED9A6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79CCB-4A08-4F6E-8BC3-E4D04826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F9B4-9251-4E61-98D4-8F57630F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5333-FB8C-4191-9FF9-484910D6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89295-2652-4A30-B7A5-2B19AB26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A46AF-5A68-439A-8BB7-824ED75E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AC0AF-C338-4C18-8DD1-06E77AF2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39A-19CE-4796-A69A-4DAAD4BA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C2FA8-47D9-4E78-8DB2-4FAB5604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D4EAB-AF81-44D8-9E07-341A9CE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C2009-FD92-4023-87D2-E127306C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A38E0-B6C5-4F20-98BF-312FCEB4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EBDF-0035-445D-A19E-DEC3B685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95ABF-640C-4528-AF6D-E55B0E27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3289-B123-475C-A76C-FCB849E0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A0E74-CF46-46EA-BEC5-AAE3D7F5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EB765-3F33-407B-9197-C51708A8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6A41C-0A3F-4A7F-979C-5E9FD512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C67-30E5-4EC1-B48A-48F6E97A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F6411-AC64-44DD-843E-A22812BB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7FF2-DB80-4BA6-B87F-6728762D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DF83-2475-4E90-8255-D06FD5DA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5662D-B521-4DC4-9BAA-2C167F26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BE51-4954-4BC1-AA3E-2DD9BEE1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9A24-A60D-4EC4-926C-9E49CC6C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9C810-07BA-4440-9A9F-2B800398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E88D-5A2C-440B-8D94-2E8DBA9F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6594-859E-43FE-9EBF-BFD9F2FD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C9025-810D-48F0-8315-7B736789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F4A-17E3-4F04-8B7E-39E70490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480DE-4B0D-4EA8-98C2-2318916C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01E5E-6E48-4B58-890C-9A32B4E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5394D-8117-4365-AE12-388DE7C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60ECC-EB92-4C4F-AC7F-C1F1AE2A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18BC0-46AE-40A8-A41A-60274A87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7FE4-592B-4AF2-B229-965BC63A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91D5E-9BC4-42DC-A059-FABAC93C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FE0DE-AEB6-42EE-9FF3-A44DB03B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081E2-9AAB-41F8-A656-099DBA5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8C7CF-A4F4-4A51-AB12-49492734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B1DB-8D6E-426C-9451-2F75A2F47A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DFE-FDB2-4383-BA30-1CA8422594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8E87-8B30-4B5E-95F2-CA387F6DB0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9188-5D79-4B72-9234-4C22ABA9DF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FE9B-8FC0-4321-BECC-F8268F313C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4052-72F1-4D43-BC0E-C0E48979E5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4DF1-7142-4004-9977-9E44D0EBC2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EE5F-B9D8-44A1-945C-F457DB9EE0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5951-C9E2-42A8-86BE-2E21BE8BEC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5AE4-8707-43BB-8E81-31DBA34253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D6F2-5935-4DEE-BF8E-2D4AAACF7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24B9-AE63-40F7-B079-690070FD5E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5641-0D78-45F1-A920-C3BBB7AA61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E39D-7A7E-48FF-8AD0-2F7874F9F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5991-126A-404F-BE79-1B5DADB138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F378-0089-4759-B470-E05CA6237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EC06-C345-43AB-9312-D46A837A31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E2A5-8688-4326-9E3C-44094D8AE2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FD8F-D936-4F3B-84B7-3C3712F9B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A38A-BEAC-4CB9-872E-5AAE80D055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7A09-1B87-4115-96EC-CC39B45BE0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2670-525A-4D6D-BB1B-68F61798EC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A840-FF32-4374-9A05-13067752DD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F7FF-9BA1-4CC4-A3B8-3927592497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72A1-3DC3-41F3-A5DA-4D5B5964D2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F45E-C682-496D-B0A2-4F8AE3A315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4939-DF94-41A6-8E43-0507749E86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5B15-8A06-4F90-B39A-64EE63DD72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513E-DA75-4A48-B395-B40658365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5C84-6F0D-4AAC-B5FD-CC8E5A0B1F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ECB-7C10-43E5-B72B-0C59323761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5EBE-7677-4221-A784-11519BAB5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272C-5CDA-4C20-BAC2-763F871C08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1672-55A3-4079-B5DE-9585DD865A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5F1B-530E-4B1D-8BCE-0A1870CEB6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F8B1-44CF-42CC-899C-102425698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AAA-1E52-4517-9CCC-7C6401CE38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15BE-294F-4994-BA8F-BB973B4258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4E6F-74F8-4BB3-9B97-F7F03B4216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D739-44BE-4750-92BE-56BAC36936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1797-7B86-4CCB-8E74-A3999FC6BF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A1F-4BA4-4C8A-988D-2D0D6ACF14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7DB7-04D0-4C66-B218-A2981263C7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410B-8F3F-4535-AB47-5DFF1065E1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066-5548-4313-B995-3FDEB942BF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5F67-EB3B-4E2F-A0D2-BF50AE996A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6558-EE9E-485C-BA37-960B1B7DDE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E547-9649-4600-B642-5C1EFAD955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2108-D743-4F48-93C0-F379F48AED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1B73-4F9D-4789-B6CC-E811C524B6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295360" y="3119400"/>
            <a:ext cx="45532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6738" descr=""/>
          <p:cNvPicPr/>
          <p:nvPr/>
        </p:nvPicPr>
        <p:blipFill>
          <a:blip r:embed="rId1"/>
          <a:stretch/>
        </p:blipFill>
        <p:spPr>
          <a:xfrm>
            <a:off x="611280" y="733320"/>
            <a:ext cx="812484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5713" descr=""/>
          <p:cNvPicPr/>
          <p:nvPr/>
        </p:nvPicPr>
        <p:blipFill>
          <a:blip r:embed="rId1"/>
          <a:stretch/>
        </p:blipFill>
        <p:spPr>
          <a:xfrm>
            <a:off x="723960" y="1409760"/>
            <a:ext cx="7696080" cy="403848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5714"/>
          <p:cNvSpPr/>
          <p:nvPr/>
        </p:nvSpPr>
        <p:spPr>
          <a:xfrm>
            <a:off x="1360440" y="3746520"/>
            <a:ext cx="71200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5715"/>
          <p:cNvSpPr/>
          <p:nvPr/>
        </p:nvSpPr>
        <p:spPr>
          <a:xfrm>
            <a:off x="1284120" y="4295880"/>
            <a:ext cx="71200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5716"/>
          <p:cNvSpPr/>
          <p:nvPr/>
        </p:nvSpPr>
        <p:spPr>
          <a:xfrm>
            <a:off x="1141560" y="4848120"/>
            <a:ext cx="7119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4689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715160" cy="218088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4690"/>
          <p:cNvSpPr/>
          <p:nvPr/>
        </p:nvSpPr>
        <p:spPr>
          <a:xfrm>
            <a:off x="1170000" y="2400480"/>
            <a:ext cx="71200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4691"/>
          <p:cNvSpPr/>
          <p:nvPr/>
        </p:nvSpPr>
        <p:spPr>
          <a:xfrm>
            <a:off x="1179360" y="2990880"/>
            <a:ext cx="71200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2"/>
          <p:cNvSpPr/>
          <p:nvPr/>
        </p:nvSpPr>
        <p:spPr>
          <a:xfrm>
            <a:off x="1122480" y="3581280"/>
            <a:ext cx="7119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13667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3932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2641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048520" cy="211464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12642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8134200" cy="390528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2643"/>
          <p:cNvSpPr/>
          <p:nvPr/>
        </p:nvSpPr>
        <p:spPr>
          <a:xfrm>
            <a:off x="969840" y="4010040"/>
            <a:ext cx="75628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2644"/>
          <p:cNvSpPr/>
          <p:nvPr/>
        </p:nvSpPr>
        <p:spPr>
          <a:xfrm>
            <a:off x="826920" y="4610160"/>
            <a:ext cx="75628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2645"/>
          <p:cNvSpPr/>
          <p:nvPr/>
        </p:nvSpPr>
        <p:spPr>
          <a:xfrm>
            <a:off x="950760" y="5143680"/>
            <a:ext cx="75628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2646"/>
          <p:cNvSpPr/>
          <p:nvPr/>
        </p:nvSpPr>
        <p:spPr>
          <a:xfrm>
            <a:off x="979560" y="5724360"/>
            <a:ext cx="75628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2647"/>
          <p:cNvSpPr/>
          <p:nvPr/>
        </p:nvSpPr>
        <p:spPr>
          <a:xfrm>
            <a:off x="960480" y="6267600"/>
            <a:ext cx="75628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1617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39040" cy="2733480"/>
          </a:xfrm>
          <a:prstGeom prst="rect">
            <a:avLst/>
          </a:prstGeom>
          <a:ln w="0">
            <a:noFill/>
          </a:ln>
        </p:spPr>
      </p:pic>
      <p:pic>
        <p:nvPicPr>
          <p:cNvPr id="1481" name="图片 111618" descr=""/>
          <p:cNvPicPr/>
          <p:nvPr/>
        </p:nvPicPr>
        <p:blipFill>
          <a:blip r:embed="rId2"/>
          <a:stretch/>
        </p:blipFill>
        <p:spPr>
          <a:xfrm>
            <a:off x="755640" y="4724280"/>
            <a:ext cx="8182080" cy="155268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1619"/>
          <p:cNvSpPr/>
          <p:nvPr/>
        </p:nvSpPr>
        <p:spPr>
          <a:xfrm>
            <a:off x="665280" y="1685880"/>
            <a:ext cx="7578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1620"/>
          <p:cNvSpPr/>
          <p:nvPr/>
        </p:nvSpPr>
        <p:spPr>
          <a:xfrm>
            <a:off x="522360" y="2276640"/>
            <a:ext cx="75787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1621"/>
          <p:cNvSpPr/>
          <p:nvPr/>
        </p:nvSpPr>
        <p:spPr>
          <a:xfrm>
            <a:off x="617400" y="2847960"/>
            <a:ext cx="7578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1622"/>
          <p:cNvSpPr/>
          <p:nvPr/>
        </p:nvSpPr>
        <p:spPr>
          <a:xfrm>
            <a:off x="674640" y="3409920"/>
            <a:ext cx="7578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1623"/>
          <p:cNvSpPr/>
          <p:nvPr/>
        </p:nvSpPr>
        <p:spPr>
          <a:xfrm>
            <a:off x="646200" y="3990960"/>
            <a:ext cx="75787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0593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01040" cy="5972040"/>
          </a:xfrm>
          <a:prstGeom prst="rect">
            <a:avLst/>
          </a:prstGeom>
          <a:ln w="0">
            <a:noFill/>
          </a:ln>
        </p:spPr>
      </p:pic>
      <p:sp>
        <p:nvSpPr>
          <p:cNvPr id="1488" name="矩形 110594"/>
          <p:cNvSpPr/>
          <p:nvPr/>
        </p:nvSpPr>
        <p:spPr>
          <a:xfrm>
            <a:off x="2884320" y="1743120"/>
            <a:ext cx="543276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0595"/>
          <p:cNvSpPr/>
          <p:nvPr/>
        </p:nvSpPr>
        <p:spPr>
          <a:xfrm>
            <a:off x="2351160" y="2314440"/>
            <a:ext cx="5432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0596"/>
          <p:cNvSpPr/>
          <p:nvPr/>
        </p:nvSpPr>
        <p:spPr>
          <a:xfrm>
            <a:off x="2894040" y="3086280"/>
            <a:ext cx="54324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0597"/>
          <p:cNvSpPr/>
          <p:nvPr/>
        </p:nvSpPr>
        <p:spPr>
          <a:xfrm>
            <a:off x="2846520" y="3828960"/>
            <a:ext cx="5432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0598"/>
          <p:cNvSpPr/>
          <p:nvPr/>
        </p:nvSpPr>
        <p:spPr>
          <a:xfrm>
            <a:off x="2922480" y="4648320"/>
            <a:ext cx="54324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0599"/>
          <p:cNvSpPr/>
          <p:nvPr/>
        </p:nvSpPr>
        <p:spPr>
          <a:xfrm>
            <a:off x="2332080" y="5210280"/>
            <a:ext cx="5432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0600"/>
          <p:cNvSpPr/>
          <p:nvPr/>
        </p:nvSpPr>
        <p:spPr>
          <a:xfrm>
            <a:off x="2913120" y="6010200"/>
            <a:ext cx="54324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09569" descr=""/>
          <p:cNvPicPr/>
          <p:nvPr/>
        </p:nvPicPr>
        <p:blipFill>
          <a:blip r:embed="rId1"/>
          <a:stretch/>
        </p:blipFill>
        <p:spPr>
          <a:xfrm>
            <a:off x="523800" y="1176480"/>
            <a:ext cx="8096400" cy="4505040"/>
          </a:xfrm>
          <a:prstGeom prst="rect">
            <a:avLst/>
          </a:prstGeom>
          <a:ln w="0">
            <a:noFill/>
          </a:ln>
        </p:spPr>
      </p:pic>
      <p:sp>
        <p:nvSpPr>
          <p:cNvPr id="1496" name="矩形 109570"/>
          <p:cNvSpPr/>
          <p:nvPr/>
        </p:nvSpPr>
        <p:spPr>
          <a:xfrm>
            <a:off x="5132520" y="2286000"/>
            <a:ext cx="336996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09571"/>
          <p:cNvSpPr/>
          <p:nvPr/>
        </p:nvSpPr>
        <p:spPr>
          <a:xfrm>
            <a:off x="960480" y="2867040"/>
            <a:ext cx="40100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9572"/>
          <p:cNvSpPr/>
          <p:nvPr/>
        </p:nvSpPr>
        <p:spPr>
          <a:xfrm>
            <a:off x="4255920" y="3448080"/>
            <a:ext cx="42768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9573"/>
          <p:cNvSpPr/>
          <p:nvPr/>
        </p:nvSpPr>
        <p:spPr>
          <a:xfrm>
            <a:off x="1017720" y="4019400"/>
            <a:ext cx="52099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9574"/>
          <p:cNvSpPr/>
          <p:nvPr/>
        </p:nvSpPr>
        <p:spPr>
          <a:xfrm>
            <a:off x="4332240" y="4581360"/>
            <a:ext cx="427680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9575"/>
          <p:cNvSpPr/>
          <p:nvPr/>
        </p:nvSpPr>
        <p:spPr>
          <a:xfrm>
            <a:off x="1017720" y="5162400"/>
            <a:ext cx="657864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05720" cy="38005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1969920" y="3097080"/>
            <a:ext cx="6591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4398840" y="310680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3851280" y="349092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5056200" y="4640400"/>
            <a:ext cx="65880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3905" descr=""/>
          <p:cNvPicPr/>
          <p:nvPr/>
        </p:nvPicPr>
        <p:blipFill>
          <a:blip r:embed="rId1"/>
          <a:stretch/>
        </p:blipFill>
        <p:spPr>
          <a:xfrm>
            <a:off x="371520" y="1352520"/>
            <a:ext cx="8400960" cy="415296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3906"/>
          <p:cNvSpPr/>
          <p:nvPr/>
        </p:nvSpPr>
        <p:spPr>
          <a:xfrm>
            <a:off x="2827440" y="208764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07"/>
          <p:cNvSpPr/>
          <p:nvPr/>
        </p:nvSpPr>
        <p:spPr>
          <a:xfrm>
            <a:off x="5313240" y="246852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8"/>
          <p:cNvSpPr/>
          <p:nvPr/>
        </p:nvSpPr>
        <p:spPr>
          <a:xfrm>
            <a:off x="6151680" y="3240000"/>
            <a:ext cx="14270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9"/>
          <p:cNvSpPr/>
          <p:nvPr/>
        </p:nvSpPr>
        <p:spPr>
          <a:xfrm>
            <a:off x="5846760" y="4392720"/>
            <a:ext cx="65880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0"/>
          <p:cNvSpPr/>
          <p:nvPr/>
        </p:nvSpPr>
        <p:spPr>
          <a:xfrm>
            <a:off x="1170000" y="4773600"/>
            <a:ext cx="6588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543880" cy="275256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122882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4238640" cy="1476360"/>
          </a:xfrm>
          <a:prstGeom prst="rect">
            <a:avLst/>
          </a:prstGeom>
          <a:ln w="0">
            <a:noFill/>
          </a:ln>
        </p:spPr>
      </p:pic>
      <p:pic>
        <p:nvPicPr>
          <p:cNvPr id="1446" name="图片 122883" descr=""/>
          <p:cNvPicPr/>
          <p:nvPr/>
        </p:nvPicPr>
        <p:blipFill>
          <a:blip r:embed="rId3"/>
          <a:stretch/>
        </p:blipFill>
        <p:spPr>
          <a:xfrm>
            <a:off x="5435640" y="3357720"/>
            <a:ext cx="2095560" cy="192384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2884"/>
          <p:cNvSpPr/>
          <p:nvPr/>
        </p:nvSpPr>
        <p:spPr>
          <a:xfrm>
            <a:off x="8370720" y="325908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185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6324840" cy="34272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21858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381880" cy="302904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21859"/>
          <p:cNvSpPr/>
          <p:nvPr/>
        </p:nvSpPr>
        <p:spPr>
          <a:xfrm>
            <a:off x="6332400" y="105876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60"/>
          <p:cNvSpPr/>
          <p:nvPr/>
        </p:nvSpPr>
        <p:spPr>
          <a:xfrm>
            <a:off x="8418600" y="2982960"/>
            <a:ext cx="347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333360" y="2028960"/>
            <a:ext cx="8477280" cy="280008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8190000" y="2935440"/>
            <a:ext cx="34740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9809" descr=""/>
          <p:cNvPicPr/>
          <p:nvPr/>
        </p:nvPicPr>
        <p:blipFill>
          <a:blip r:embed="rId1"/>
          <a:stretch/>
        </p:blipFill>
        <p:spPr>
          <a:xfrm>
            <a:off x="338040" y="2043000"/>
            <a:ext cx="8467920" cy="277200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9810"/>
          <p:cNvSpPr/>
          <p:nvPr/>
        </p:nvSpPr>
        <p:spPr>
          <a:xfrm>
            <a:off x="8132760" y="2830680"/>
            <a:ext cx="34776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8789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2838600" cy="771480"/>
          </a:xfrm>
          <a:prstGeom prst="rect">
            <a:avLst/>
          </a:prstGeom>
          <a:ln w="0">
            <a:noFill/>
          </a:ln>
        </p:spPr>
      </p:pic>
      <p:pic>
        <p:nvPicPr>
          <p:cNvPr id="1457" name="图片 118790" descr=""/>
          <p:cNvPicPr/>
          <p:nvPr/>
        </p:nvPicPr>
        <p:blipFill>
          <a:blip r:embed="rId2"/>
          <a:stretch/>
        </p:blipFill>
        <p:spPr>
          <a:xfrm>
            <a:off x="539640" y="1495440"/>
            <a:ext cx="8420040" cy="535320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8791"/>
          <p:cNvSpPr/>
          <p:nvPr/>
        </p:nvSpPr>
        <p:spPr>
          <a:xfrm>
            <a:off x="8342280" y="184932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8792"/>
          <p:cNvSpPr/>
          <p:nvPr/>
        </p:nvSpPr>
        <p:spPr>
          <a:xfrm>
            <a:off x="8304120" y="452592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7763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72520" cy="535320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7764"/>
          <p:cNvSpPr/>
          <p:nvPr/>
        </p:nvSpPr>
        <p:spPr>
          <a:xfrm>
            <a:off x="8180280" y="188748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7765"/>
          <p:cNvSpPr/>
          <p:nvPr/>
        </p:nvSpPr>
        <p:spPr>
          <a:xfrm>
            <a:off x="8237520" y="4649760"/>
            <a:ext cx="3477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2:1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